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91D0-A6F3-452B-8591-DAC722DE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9E14-EDBF-4C83-BCD4-189B28A5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081F-A31B-41B4-BBA3-C3E542C5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9520-0F90-4CA0-B4C4-7D37425E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549-ED6C-461B-83C5-77E7D059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7661-4C4B-4895-8D39-5F37F60A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282-927F-4E0C-A32D-EF373B16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3866-6856-4587-943D-012D36A1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D396-40D3-4BE6-A0D5-9C18FA81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D741-912A-46A9-BB91-0579215C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9F73-D471-46DB-B477-0EE6BF1D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F17-B187-4693-8305-D5D88DD2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AEE8A6-AEC6-4F04-A827-1AB20C1D309D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3640" y="1413000"/>
            <a:ext cx="3888000" cy="34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Isolation and the Evolution of New Spe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02444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5280" y="2276640"/>
            <a:ext cx="3960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atural selection caused many marsupials to evo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cross the rest of the world competition resulted in other mammals evolving with more efficient reproductive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rsupials remain dominant in Austra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1885680" cy="201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50012" t="0" r="0" b="0"/>
          <a:stretch/>
        </p:blipFill>
        <p:spPr>
          <a:xfrm>
            <a:off x="5219640" y="189000"/>
            <a:ext cx="3510000" cy="6480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843280" y="189000"/>
            <a:ext cx="2095560" cy="19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Isolation and the Evolution of New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4508280"/>
            <a:ext cx="87138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When species evolve in isolation and found in only one place in the world, it is said to be </a:t>
            </a:r>
            <a:r>
              <a:rPr b="1" lang="es-ES" sz="2800" spc="-1" strike="noStrike">
                <a:solidFill>
                  <a:srgbClr val="0000ff"/>
                </a:solidFill>
                <a:latin typeface="Comic Sans MS"/>
              </a:rPr>
              <a:t>endem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laces like Borneo have many endemic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3384360" cy="3137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00720" y="1125360"/>
            <a:ext cx="4000320" cy="29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77760"/>
            <a:ext cx="417492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Isolation and the Evolution of New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3888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unt Bosavi is a crater of an extinct volcano in Papua New Guin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nimals and plants that live inside it have evolved differently to those outside the cr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12000" y="115920"/>
            <a:ext cx="2879640" cy="2162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64000" y="4508640"/>
            <a:ext cx="3589560" cy="2154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427640" y="2349360"/>
            <a:ext cx="3103560" cy="20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Isolation and the Evolution of New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6720" y="1989000"/>
            <a:ext cx="36100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Speciation when original species can no longer interbreed with the new spe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386064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3768840" cy="28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Isolation and the Evolution of New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11280" y="189000"/>
            <a:ext cx="4932360" cy="67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Ways for speciation to happen - Higher ti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New species can also arise as a result of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Genetic variation - where each population has a wide range of alleles that control their characteristics.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Natural selection - where the alleles which help an organism to survive are selected in each population.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Speciation - where the populations become so different that successful interbreeding cannot happen anymor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28616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Learning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Comic Sans MS"/>
              </a:rPr>
              <a:t>To know how new species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To understand how a population becomes iso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Comic Sans MS"/>
              </a:rPr>
              <a:t>To know whether new species form at the same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Comic Sans MS"/>
              </a:rPr>
              <a:t>To know how speciation takes place in an isolated population. (Hig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537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ow have these fossils form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27640" y="4149720"/>
            <a:ext cx="4537080" cy="2552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916360" y="4869000"/>
            <a:ext cx="1428480" cy="1104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076720" y="981000"/>
            <a:ext cx="3821040" cy="2865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1125360"/>
            <a:ext cx="3384720" cy="2543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3492360" y="1989000"/>
            <a:ext cx="1428840" cy="11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Isolation and the Evolution of New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8000" y="3068640"/>
            <a:ext cx="360972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fter a mass extinction, a huge number of new species appear in the fossil rec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This is evolution in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3789360"/>
            <a:ext cx="3822840" cy="2871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651640" y="1125360"/>
            <a:ext cx="2808000" cy="1835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1280" y="981000"/>
            <a:ext cx="400032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142920"/>
            <a:ext cx="8713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Isolation and the Evolution of New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atural selection takes place and new organisms adapted to different conditions evolve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7127640" cy="45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Isolation and the Evolution of New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43210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Any population of living organisms contain genetic vari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If one population becomes isolated they will probably be living in different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0" r="0" b="16829"/>
          <a:stretch/>
        </p:blipFill>
        <p:spPr>
          <a:xfrm>
            <a:off x="4211640" y="1125360"/>
            <a:ext cx="4581360" cy="53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Isolation and the Evolution of New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4869000"/>
            <a:ext cx="9144000" cy="20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Two populations might change so much over time that they can not interbr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This is a new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4245" t="18419" r="2822" b="17000"/>
          <a:stretch/>
        </p:blipFill>
        <p:spPr>
          <a:xfrm>
            <a:off x="755640" y="981000"/>
            <a:ext cx="7272360" cy="38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Isolation and the Evolution of New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3097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st common way species become isolated is by geographical iso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is when two populations become physically isolated ie, a new river or mount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635280" y="1052640"/>
            <a:ext cx="5257800" cy="51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Isolation and the Evolution of New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88000" y="1267920"/>
            <a:ext cx="3898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n exampl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ustralia became separated from other continents over 5 million years 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Marsupial mammals (carry babies in pouches) became isol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30607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5:31:32Z</dcterms:created>
  <dc:creator>sonia.bhatti</dc:creator>
  <dc:description/>
  <dc:language>en-US</dc:language>
  <cp:lastModifiedBy>sonia.bhatti</cp:lastModifiedBy>
  <dcterms:modified xsi:type="dcterms:W3CDTF">2012-12-06T15:12:06Z</dcterms:modified>
  <cp:revision>17</cp:revision>
  <dc:subject/>
  <dc:title>Isolation and the Evolution of New Species</dc:title>
</cp:coreProperties>
</file>